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699-090F-449C-80C6-FA230D52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02D-BF99-49A6-B620-FAAAC88E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BD01-1B30-4DF7-8D2A-48F89549C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9ED-5E8F-49AB-ADFA-C69E38E75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BFC-F601-4569-9D15-FB6BB2A5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C3C-75D2-4783-A7BD-344CED1F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90D-F535-4DCE-A5CA-6860D568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372-C0AC-4940-AB03-7295CBFE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ED7-C7DF-429A-BE7C-1EA541E0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8097-3089-4993-81A3-8AEE2F66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2AA1-3893-4805-B140-17483DC3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3C94-5351-4654-B686-5AE9D90C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FBE7-E68E-4683-9051-FA609F861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1905120"/>
            <a:ext cx="73911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you are in my classroom and in a “breakout” ro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t’s a separate “study” are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check out some of the feature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lick on the “next page” button on the bottom left of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creen – it’s the “right”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990720" y="4876920"/>
            <a:ext cx="7617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eakout room is a little differ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 depends on how each onMATH teacher set up their “classro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….each breakout ro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whiteboar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imilar to a smartboa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 chat po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 you to communicate with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nMATH teac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n attendee lis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 that you can see who else is in this “room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of us may have added some web links, files to share, etc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to the next page to see a sample “breakout room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hat a breakout room might look like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33520" y="1095480"/>
            <a:ext cx="7391160" cy="4543200"/>
            <a:chOff x="533520" y="1095480"/>
            <a:chExt cx="7391160" cy="45432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533520" y="1095480"/>
              <a:ext cx="7391160" cy="45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533520" y="1095480"/>
              <a:ext cx="7391160" cy="45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520" y="5421240"/>
            <a:ext cx="7391160" cy="293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3160" y="6019920"/>
            <a:ext cx="2105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lick to the next page to contin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22096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 p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4724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4952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8288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dee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4572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 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ay, let’s hit a few button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 in the right corner, you will find the ic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whiteboard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icon and the toolbar will app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pencil tool to write something all over th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the colour; change the thickness of the penc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when you click on the eras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few numbers on the page then click the backwards arrow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would be a better tool to use when you make an error and you want to erase just one or two things (instead of erasing EVERYTH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409680" cy="371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440" y="5715000"/>
            <a:ext cx="2105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lick to the next page to contin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try the some of the other tools…such as the marker tool, line tool, shapes, text, stamper….can you change the size or colo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if you have a question?  Find the icon to “raise your hand” in this virtual class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440" y="5715000"/>
            <a:ext cx="210564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lick to the next page to continu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you are familiar with the tools, you are ready to start using the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looking forward to seeing you again at  onMA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43:43Z</dcterms:created>
  <dc:creator>officeuser</dc:creator>
  <dc:description/>
  <dc:language>en-US</dc:language>
  <cp:lastModifiedBy>officeuser</cp:lastModifiedBy>
  <dcterms:modified xsi:type="dcterms:W3CDTF">2010-02-04T15:25:01Z</dcterms:modified>
  <cp:revision>7</cp:revision>
  <dc:subject/>
  <dc:title>Intro</dc:title>
</cp:coreProperties>
</file>